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42E-8066-4535-994F-C647A337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723-B925-4C3F-8F29-D137A39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3B3-D561-4C72-8EF2-704A69E6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F7B-EFD0-4707-BF76-D59976C4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128-685E-45B4-944B-B0AE5F54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8CF-FE29-4ADA-9E4C-E037295B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CE77-0992-4ACA-B5BA-54D16D22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0362-33AB-4842-9C99-0BB0335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923-D385-4C0B-B6AD-39C0D39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27D1-13A3-410C-A6FF-639E3D90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72F2-7D67-4D58-9BAC-75CEC40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976-1CF4-48D9-B6D8-6AD55ACF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ADCF-FDBD-488E-9CA0-05F99B2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EC0-B3BF-4154-A911-70A9CC0A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E3A-86AE-45B2-BBD7-162FC811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360-A7CC-48E3-B8F0-1CB63323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77B-BA88-4E16-9A04-30D13303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B8AA-0A28-40E3-B25C-2EDDB75F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AF68-93FA-4CED-B17F-B4ECC3F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DCF8-7F3F-464C-86C2-8B984102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EFB1-DB6D-42D7-9411-565540B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51834-2F3D-4092-96F9-B025C7D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831-26EA-490E-84E9-D679BAC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2907-1715-4E62-8306-7D2E25E9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D3F1-431D-48BC-8197-CEDBFCD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90CB-0A07-4CB3-90E7-8B4E9CE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130E-EC28-4F7D-8124-C945814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8072-B587-4851-99F2-AC52983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FC1C-AC00-43B5-B686-C04489FA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EFAD-1EB7-4C93-9EAD-A001ECBD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D93D-8DFC-4B8E-9CDA-2590ABED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89E0-0093-4AB3-94D6-0E88AB5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39A4-7F0F-4548-BFCA-8E0F2FCD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D42-6BE7-48AD-B9D2-40CAA61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C16E-B0CD-4AC6-B2FA-942AA1B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E185-AE98-4893-8CE1-A3379433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CE22-29E2-40CC-8E5A-C056A75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265A-1FE2-4E43-81F8-870D04F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2AF2-E981-4336-AEE6-F0F3888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A2EB-21C7-4B28-A63C-B9E6B35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CC28-41B6-47DD-8AB5-4C41B3B3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89C4-5FB4-470C-8151-F783D888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087C-6ABF-4085-BE1B-645661B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7F38-AE29-40B5-A0E5-0AAC9120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1AE-A755-4E66-8F0F-B0E2162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3371-4B7E-489E-AFF9-F7DBFE64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3EA1-05CB-46D0-9C3E-1B199BB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A0D22-FBC9-4FC8-AFFE-7397DF1B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CCB07-11E8-4D81-BEBD-C843D04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007D-899A-43F4-8BC0-83AA71B4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88490-DB49-4428-B84E-475A990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58B21-A112-42D7-A5FC-60F5B0D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44F0-C874-4039-8622-9610DBB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72B6-C84F-4D78-BBCB-FE9FF1D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090C-C713-42A7-B182-B34EB9EA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2D7-9A56-4CA5-811A-8840D17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A6250-4BCF-4969-9FAF-276C3C7F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FF6B-EA16-40DC-A960-E6BD1135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2155-3397-4A7A-8371-335F498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2E968-0750-4C40-BF9D-33BC98F1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B83A-6219-4136-8FC0-9634849C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FDAA-2613-4814-8CF8-801141F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E3639-550A-46EF-B4B1-8AF3991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A295-AA91-44EE-908E-6B4806C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91E2B-37AC-4355-B998-CFA7F678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EAC2D-1C4F-4B07-8600-AB04312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B34-AE57-45EB-A47C-41C0170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9B0C-7C4F-4168-946F-D7EB5974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CF70-557F-4E90-A226-01CB2064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FB24-E832-4D3A-8A4C-2163B8CF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4DE2-8D2F-4E0A-920E-BE6DD15A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EB33F-5879-4F78-B50A-6B685A1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219EC-7615-4F88-9794-0F1F564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87E6E-1D5D-4A6B-BCA0-B877FCE0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139B-C0BB-4E06-ADD0-618AB02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14522-0563-4F89-845E-C3090190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4D01B-A6DD-4F8C-88B5-2CE43810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101-1286-4B11-AB4D-5361055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E83B-9550-447E-B737-EAA87EE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1BE6-5932-4D8B-80D6-B9862A1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83E0-2EA8-4C9D-B8C5-BB9A3D1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BB49-73F3-4816-8FA3-B5F7DD46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18481-770D-4A31-BF52-082F32E4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9D3-28E5-4010-843D-2BB261A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0F52-9EDC-4F99-B538-DC54BA67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975C-CB9D-48F5-B86E-AB4D59CEFB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7B6D-AA2E-41F8-95BE-A10FE1822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804-129E-43FA-B73E-6BD05549A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1EB-DE2B-4FAA-B833-3652C0A1E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5C37-999C-4D07-86EF-FF0F1C979A9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7DB-53F3-4A39-9A48-6B6F0B51C49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Satellite_image_of_Cape_peninsul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3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010360" cy="16272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6629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bd8"/>
                </a:solidFill>
                <a:latin typeface="Script MT Bold"/>
              </a:rPr>
              <a:t>O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6" descr="https://mkis4a.pbworks.com/f/Huacachina%20Oasis.jpeg"/>
          <p:cNvPicPr/>
          <p:nvPr/>
        </p:nvPicPr>
        <p:blipFill>
          <a:blip r:embed="rId2"/>
          <a:stretch/>
        </p:blipFill>
        <p:spPr>
          <a:xfrm>
            <a:off x="380880" y="2666880"/>
            <a:ext cx="5410440" cy="3381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3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762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19ff"/>
                </a:solidFill>
                <a:latin typeface="Script MT Bold"/>
              </a:rPr>
              <a:t>Mountain ran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6" descr="Rocky Mountains"/>
          <p:cNvPicPr/>
          <p:nvPr/>
        </p:nvPicPr>
        <p:blipFill>
          <a:blip r:embed="rId2"/>
          <a:stretch/>
        </p:blipFill>
        <p:spPr>
          <a:xfrm>
            <a:off x="533520" y="179856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150400" cy="1354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http://www.musetrek.com/assets/photos/406/406/medium_1288902864263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http://t0.gstatic.com/images?q=tbn:ANd9GcQmOxrYNdZVnDZ9ivLZuG_KUtZNiu0_1UBaIbmKOMMHqc04ebaP4inzJjburg"/>
          <p:cNvPicPr/>
          <p:nvPr/>
        </p:nvPicPr>
        <p:blipFill>
          <a:blip r:embed="rId3"/>
          <a:stretch/>
        </p:blipFill>
        <p:spPr>
          <a:xfrm>
            <a:off x="304920" y="3429000"/>
            <a:ext cx="3687480" cy="2762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1676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Box 15"/>
          <p:cNvSpPr/>
          <p:nvPr/>
        </p:nvSpPr>
        <p:spPr>
          <a:xfrm>
            <a:off x="60958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Straight Arrow Connector 19" descr=""/>
          <p:cNvPicPr/>
          <p:nvPr/>
        </p:nvPicPr>
        <p:blipFill>
          <a:blip r:embed="rId4"/>
          <a:stretch/>
        </p:blipFill>
        <p:spPr>
          <a:xfrm>
            <a:off x="4498920" y="3230640"/>
            <a:ext cx="220680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Straight Arrow Connector 21" descr=""/>
          <p:cNvPicPr/>
          <p:nvPr/>
        </p:nvPicPr>
        <p:blipFill>
          <a:blip r:embed="rId5"/>
          <a:stretch/>
        </p:blipFill>
        <p:spPr>
          <a:xfrm>
            <a:off x="2365200" y="3230640"/>
            <a:ext cx="17496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41" name="TextBox 22"/>
          <p:cNvGrpSpPr/>
          <p:nvPr/>
        </p:nvGrpSpPr>
        <p:grpSpPr>
          <a:xfrm>
            <a:off x="-79200" y="1139760"/>
            <a:ext cx="2371680" cy="2468520"/>
            <a:chOff x="-79200" y="1139760"/>
            <a:chExt cx="2371680" cy="2468520"/>
          </a:xfrm>
        </p:grpSpPr>
        <p:pic>
          <p:nvPicPr>
            <p:cNvPr id="342" name="TextBox 22" descr=""/>
            <p:cNvPicPr/>
            <p:nvPr/>
          </p:nvPicPr>
          <p:blipFill>
            <a:blip r:embed="rId6"/>
            <a:stretch/>
          </p:blipFill>
          <p:spPr>
            <a:xfrm>
              <a:off x="-79200" y="1139760"/>
              <a:ext cx="23716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0" y="1219320"/>
              <a:ext cx="2209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c99ff"/>
                  </a:solidFill>
                  <a:latin typeface="Century Gothic"/>
                </a:rPr>
                <a:t>The source is the beginning of a river and the mouth is the e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304920" y="347760"/>
            <a:ext cx="8010360" cy="14875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9"/>
          <p:cNvSpPr/>
          <p:nvPr/>
        </p:nvSpPr>
        <p:spPr>
          <a:xfrm>
            <a:off x="76212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2c"/>
                </a:solidFill>
                <a:latin typeface="Rockwell Condensed"/>
              </a:rPr>
              <a:t>A plateau is a high flat land a plain is not hig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6" descr="http://divingintolearning.wikispaces.com/file/view/Plains.jpg/184778861/Plains.jpg"/>
          <p:cNvPicPr/>
          <p:nvPr/>
        </p:nvPicPr>
        <p:blipFill>
          <a:blip r:embed="rId2"/>
          <a:stretch/>
        </p:blipFill>
        <p:spPr>
          <a:xfrm>
            <a:off x="228600" y="3429000"/>
            <a:ext cx="4154400" cy="2771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media-cdn.tripadvisor.com/media/photo-s/01/6b/49/96/waterberg-plateau-park.jpg"/>
          <p:cNvPicPr/>
          <p:nvPr/>
        </p:nvPicPr>
        <p:blipFill>
          <a:blip r:embed="rId3"/>
          <a:stretch/>
        </p:blipFill>
        <p:spPr>
          <a:xfrm>
            <a:off x="4648320" y="3505320"/>
            <a:ext cx="3962160" cy="26445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1676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91320" y="3048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384120" y="-79200"/>
            <a:ext cx="8156520" cy="14572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0" y="1447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2"/>
                </a:solidFill>
                <a:latin typeface="Times New Roman"/>
              </a:rPr>
              <a:t>A glacier moves on land an iceberg is in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8" descr="http://www.rubypenguin.com/Alaska/Day7/12VassarGlacier02.JPG"/>
          <p:cNvPicPr/>
          <p:nvPr/>
        </p:nvPicPr>
        <p:blipFill>
          <a:blip r:embed="rId2"/>
          <a:stretch/>
        </p:blipFill>
        <p:spPr>
          <a:xfrm>
            <a:off x="228600" y="358128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http://www.alaska-in-pictures.com/data/media/19/tracy-arm-iceberg_1377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57880" cy="30006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9"/>
          <p:cNvSpPr/>
          <p:nvPr/>
        </p:nvSpPr>
        <p:spPr>
          <a:xfrm>
            <a:off x="14479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Box 10"/>
          <p:cNvSpPr/>
          <p:nvPr/>
        </p:nvSpPr>
        <p:spPr>
          <a:xfrm>
            <a:off x="59436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384120" y="92160"/>
            <a:ext cx="8004240" cy="15904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7057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Ravie"/>
              </a:rPr>
              <a:t>p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6" descr="http://t2.gstatic.com/images?q=tbn:ANd9GcStIihgQTNKQuC9S4yh2T62yid0XoEOrnJWRir0qUk6ABTktFv6gmbm6LF0uA"/>
          <p:cNvPicPr/>
          <p:nvPr/>
        </p:nvPicPr>
        <p:blipFill>
          <a:blip r:embed="rId2"/>
          <a:stretch/>
        </p:blipFill>
        <p:spPr>
          <a:xfrm>
            <a:off x="838080" y="2362320"/>
            <a:ext cx="5562720" cy="36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8174160" cy="1927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http://upload.wikimedia.org/wikipedia/commons/thumb/1/1d/Satellite_image_of_Cape_peninsula.jpg/250px-Satellite_image_of_Cape_peninsul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819520"/>
            <a:ext cx="5878800" cy="3714480"/>
          </a:xfrm>
          <a:prstGeom prst="rect">
            <a:avLst/>
          </a:prstGeom>
          <a:ln w="0">
            <a:noFill/>
          </a:ln>
        </p:spPr>
      </p:pic>
      <p:sp>
        <p:nvSpPr>
          <p:cNvPr id="309" name="Down Arrow 11"/>
          <p:cNvSpPr/>
          <p:nvPr/>
        </p:nvSpPr>
        <p:spPr>
          <a:xfrm>
            <a:off x="4419720" y="4343400"/>
            <a:ext cx="121896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3" descr=""/>
          <p:cNvPicPr/>
          <p:nvPr/>
        </p:nvPicPr>
        <p:blipFill>
          <a:blip r:embed="rId1"/>
          <a:stretch/>
        </p:blipFill>
        <p:spPr>
          <a:xfrm>
            <a:off x="384120" y="512640"/>
            <a:ext cx="8004240" cy="1627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6" descr="http://gowaterfalling.com/waterfalls/images/full/mi/vslateriverfalls1.jpg"/>
          <p:cNvPicPr/>
          <p:nvPr/>
        </p:nvPicPr>
        <p:blipFill>
          <a:blip r:embed="rId2"/>
          <a:stretch/>
        </p:blipFill>
        <p:spPr>
          <a:xfrm>
            <a:off x="2057400" y="2438280"/>
            <a:ext cx="3124080" cy="416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3" descr=""/>
          <p:cNvPicPr/>
          <p:nvPr/>
        </p:nvPicPr>
        <p:blipFill>
          <a:blip r:embed="rId1"/>
          <a:stretch/>
        </p:blipFill>
        <p:spPr>
          <a:xfrm>
            <a:off x="384120" y="146160"/>
            <a:ext cx="8332920" cy="19270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6" descr="http://upload.wikimedia.org/wikipedia/commons/5/5a/Green_Izalco_Volcano.JPG"/>
          <p:cNvPicPr/>
          <p:nvPr/>
        </p:nvPicPr>
        <p:blipFill>
          <a:blip r:embed="rId2"/>
          <a:stretch/>
        </p:blipFill>
        <p:spPr>
          <a:xfrm>
            <a:off x="609480" y="2235240"/>
            <a:ext cx="5943600" cy="39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3" descr=""/>
          <p:cNvPicPr/>
          <p:nvPr/>
        </p:nvPicPr>
        <p:blipFill>
          <a:blip r:embed="rId1"/>
          <a:stretch/>
        </p:blipFill>
        <p:spPr>
          <a:xfrm>
            <a:off x="530280" y="-12600"/>
            <a:ext cx="793728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lat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457200" y="2590920"/>
            <a:ext cx="58784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3" descr=""/>
          <p:cNvPicPr/>
          <p:nvPr/>
        </p:nvPicPr>
        <p:blipFill>
          <a:blip r:embed="rId1"/>
          <a:stretch/>
        </p:blipFill>
        <p:spPr>
          <a:xfrm>
            <a:off x="304920" y="-244440"/>
            <a:ext cx="8431200" cy="2616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eoblox.com/images/ria_coast_cl.jpg"/>
          <p:cNvPicPr/>
          <p:nvPr/>
        </p:nvPicPr>
        <p:blipFill>
          <a:blip r:embed="rId2"/>
          <a:stretch/>
        </p:blipFill>
        <p:spPr>
          <a:xfrm>
            <a:off x="533520" y="2968560"/>
            <a:ext cx="5181480" cy="38894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6553080" y="3429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iner Hand ITC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3" descr=""/>
          <p:cNvPicPr/>
          <p:nvPr/>
        </p:nvPicPr>
        <p:blipFill>
          <a:blip r:embed="rId1"/>
          <a:stretch/>
        </p:blipFill>
        <p:spPr>
          <a:xfrm>
            <a:off x="304920" y="-182520"/>
            <a:ext cx="8875440" cy="20476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gneto"/>
              </a:rPr>
              <a:t>Glac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6" descr="http://www.iceagenow.com/Perito_Moreno_Glacier.jpg"/>
          <p:cNvPicPr/>
          <p:nvPr/>
        </p:nvPicPr>
        <p:blipFill>
          <a:blip r:embed="rId2"/>
          <a:stretch/>
        </p:blipFill>
        <p:spPr>
          <a:xfrm>
            <a:off x="609480" y="2133720"/>
            <a:ext cx="57913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3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7557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6" descr="http://t1.gstatic.com/images?q=tbn:ANd9GcRnuGgjmv5_YxxGWVYEyidaq7bPIamJLJQ_1SDjR_12HtGhXw13liusroWkbg"/>
          <p:cNvPicPr/>
          <p:nvPr/>
        </p:nvPicPr>
        <p:blipFill>
          <a:blip r:embed="rId2"/>
          <a:stretch/>
        </p:blipFill>
        <p:spPr>
          <a:xfrm>
            <a:off x="609480" y="2209680"/>
            <a:ext cx="605952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30T19:28:53Z</dcterms:modified>
  <cp:revision>32</cp:revision>
  <dc:subject/>
  <dc:title>PowerPoint Presentation</dc:title>
</cp:coreProperties>
</file>